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8F42-9E39-4775-A1E2-D46843B3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88F0-1959-48D9-9BEC-1341290D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71DA-7C8E-4ED7-A1EE-54BEBF92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9269-3DA1-4AED-8494-06565602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CC3F-3B74-47C3-B03D-F09E63F7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4722-EE7F-4D28-A6D8-05418F88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8420-E73E-48B3-8B40-92518392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D27C-B795-44C1-8179-E1A7824A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57E3-F03F-4F73-B38A-E31D38D6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03D5-83DA-49DD-A560-D4725E9C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CF91-0D02-4DB6-8F1F-4EE2CB17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4F27-BBF1-4D0B-ABAA-254873AD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96B0-7FFD-47C1-B8C4-069046E4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8A79-8066-412D-B2BA-20FC8066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3D0E-40F7-47CA-919D-68D2A51F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DFE2-060D-44D6-9528-9CA553CF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2032-E275-4483-BDBE-A1123252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225E-EB54-4608-8C67-027223A7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2996-CF4B-4D3C-ACF8-F16E6D74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5CDF-E8F1-48B3-9C66-5840DC18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952C-1198-42E5-A07B-E50456EC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8046-637A-481C-822D-4239FBCB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DD31-D050-4B95-BC1D-89C39DF7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C6FB-F99D-4DC0-A89F-D8DEAC80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4F9B-DE14-4DCA-931B-4EEAB6CBD582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BB54-09A8-4D38-B3E7-4499F3197AC8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s una Sala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i casa Bonita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500076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Pictures Beautiful Kitchens Beautiful Kitchen Slideshow"/>
          <p:cNvPicPr/>
          <p:nvPr/>
        </p:nvPicPr>
        <p:blipFill>
          <a:blip r:embed="rId1"/>
          <a:stretch/>
        </p:blipFill>
        <p:spPr>
          <a:xfrm>
            <a:off x="2057400" y="29336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71500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4100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5715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4100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7:38:07Z</dcterms:created>
  <dc:creator>mangiarattilau</dc:creator>
  <dc:description/>
  <dc:language>en-US</dc:language>
  <cp:lastModifiedBy>mangiarattilau</cp:lastModifiedBy>
  <dcterms:modified xsi:type="dcterms:W3CDTF">2011-03-30T18:07:39Z</dcterms:modified>
  <cp:revision>2</cp:revision>
  <dc:subject/>
  <dc:title>Es una Sala </dc:title>
</cp:coreProperties>
</file>